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D24B-94F1-49DA-B36B-A4C1B0D16F1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6BEA-2C49-4D8C-9DB5-1F2103B06CF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6BF8-BA36-4648-A515-B9E778600A7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E601-724D-4228-913D-16A213A0EB4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7D2C-4FF9-4311-B6ED-88E9EDCAA3F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6752-5838-439B-A8D2-9C4AB02E781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12600" rIns="12600" tIns="12600" bIns="12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C5D1-8BE2-481E-93C3-A5DF8062D30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1EAB-3A5C-4268-ACCD-7848FAE36E6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3C2B-541E-4CBF-95C8-A710244FFE2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0000"/>
              </a:solidFill>
              <a:latin typeface="Gill Sans"/>
              <a:ea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DCCF-7152-4B2C-BC87-5AE07D8C4F0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CA16-ED5E-423D-8946-61E8AD37718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a0b11"/>
                </a:solidFill>
                <a:latin typeface="Gill Sans"/>
              </a:rPr>
              <a:t>MAGNETIC FIELD USES SOUND WAVES TO IGNITE SUN'S RING OF FIRE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-91080" y="5762160"/>
            <a:ext cx="1305396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tuart Jefferies, University of Hawaii, H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iggo Hansteen, University of Oslo, Norwa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cott McIntosh, Southwest Research Institute, Boulder, 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Bart De Pontieu, Lockheed Martin Solar &amp; Astrophysics Lab, Palo Alto, 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28080" y="4190760"/>
            <a:ext cx="11188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“</a:t>
            </a: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cientists discover what molds the Sun’s Ring of Fire”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066680" y="533520"/>
            <a:ext cx="11049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nding Credit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5800" y="3429000"/>
            <a:ext cx="1173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presented was supported by the National Aeronautics and Space Adminstration (NNG05GM75G, NNG06GG79G, NNG06GC89G), the National Science Foundation (ANT-0338251, ATM-0541567) and by the Research Council of Norway through grant 146467/420 and grants of computing time from the Programme for Supercomputing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771280" y="345600"/>
            <a:ext cx="746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is the Sun’s Ring of Fir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-138960" y="7848360"/>
            <a:ext cx="1323972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Solar Chromosphere: 20,000 F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andwiched between surface (10,000 F) and corona (2 million F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Gill Sans"/>
                <a:ea typeface="Gill Sans"/>
              </a:rPr>
              <a:t>Produces UV radiation that may influence Earth’s climate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4" descr="TSE2005-125w"/>
          <p:cNvPicPr/>
          <p:nvPr/>
        </p:nvPicPr>
        <p:blipFill>
          <a:blip r:embed="rId1"/>
          <a:stretch/>
        </p:blipFill>
        <p:spPr>
          <a:xfrm>
            <a:off x="1600200" y="1295280"/>
            <a:ext cx="9526680" cy="635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75800" y="345600"/>
            <a:ext cx="7914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" name="STEREO_EUVI_304.mov" descr="Tarkus:Users:mcintosh:Desktop:Notes:SSU Stuff:nasa_press1:STEREO_EUVI_304.mov"/>
          <p:cNvPicPr/>
          <p:nvPr/>
        </p:nvPicPr>
        <p:blipFill>
          <a:blip r:embed="rId1"/>
          <a:stretch/>
        </p:blipFill>
        <p:spPr>
          <a:xfrm>
            <a:off x="3124080" y="1066680"/>
            <a:ext cx="7086600" cy="7086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732960" y="8510760"/>
            <a:ext cx="11339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’s STEREO A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Note the jets at the limb and the flickering on the disk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69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334880" y="345600"/>
            <a:ext cx="1040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&amp; Barbed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91200" y="7772400"/>
            <a:ext cx="9873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/ESA’s SOHO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Zoomed in 3x on the South polar limb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SOHO_EIT_SLess_Zoom.mp" descr="Tarkus:Users:mcintosh:Desktop:Notes:SSU Stuff:movies:SOHO_EIT_SLess_Zoom.mp"/>
          <p:cNvPicPr/>
          <p:nvPr/>
        </p:nvPicPr>
        <p:blipFill>
          <a:blip r:embed="rId1"/>
          <a:stretch/>
        </p:blipFill>
        <p:spPr>
          <a:xfrm>
            <a:off x="1143000" y="1828800"/>
            <a:ext cx="1051560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04920" y="6750720"/>
            <a:ext cx="12420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Solar Optical Telescope (NASA/JAXA) onboard Japanese Hinode satell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he Chromosphere is dominated by thin (100-500 mile wide) jets 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hooting up and down with velocities of order 10-50 miles/s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raversing 3,000 miles in a few minutes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6" name="SOT_ca_061120_0715.mpg" descr="Tarkus:Users:mcintosh:Desktop:Notes:SSU Stuff:nasa_press1:SOT_ca_061120_0715.mpg"/>
          <p:cNvPicPr/>
          <p:nvPr/>
        </p:nvPicPr>
        <p:blipFill>
          <a:blip r:embed="rId1"/>
          <a:stretch/>
        </p:blipFill>
        <p:spPr>
          <a:xfrm>
            <a:off x="457200" y="1106640"/>
            <a:ext cx="12265200" cy="6132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299160" y="274320"/>
            <a:ext cx="1272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, Barbed &amp; Dynamic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940040" y="228240"/>
            <a:ext cx="915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Forges the Sun’s “Ring of Fire”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09480" y="1295280"/>
            <a:ext cx="11734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14400" y="8305920"/>
            <a:ext cx="11125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99"/>
                </a:solidFill>
                <a:latin typeface="Gill Sans"/>
                <a:ea typeface="Gill Sans"/>
              </a:rPr>
              <a:t>Magnetic field concentrations that are inclined from the vertical provide “portals” for the trapped waves to leak out and travel upwards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Picture 15" descr="Spicule_m"/>
          <p:cNvPicPr/>
          <p:nvPr/>
        </p:nvPicPr>
        <p:blipFill>
          <a:blip r:embed="rId1"/>
          <a:stretch/>
        </p:blipFill>
        <p:spPr>
          <a:xfrm>
            <a:off x="990720" y="914400"/>
            <a:ext cx="10972800" cy="689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2971800" y="7772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llustration by Zina Deretsky, National Science Found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53200" y="228240"/>
            <a:ext cx="952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aves leak out of interior of the Sun…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3120" y="7696800"/>
            <a:ext cx="11923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The dynamic magnetic field (jostled by convection) forms temporary “cracks” (twinkling) for the low frequency waves to pass through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7238880"/>
            <a:ext cx="128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from MOTH (Magneto-Optical filters at Two Heights - NSF, Office of Polar Program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" name="MOTH_Evo_3mHz_SM_CB.mo" descr="Tarkus:Users:mcintosh:Desktop:MOTH_Evo_3mHz_SM_CB.mo"/>
          <p:cNvPicPr/>
          <p:nvPr/>
        </p:nvPicPr>
        <p:blipFill>
          <a:blip r:embed="rId1"/>
          <a:stretch/>
        </p:blipFill>
        <p:spPr>
          <a:xfrm>
            <a:off x="1447920" y="990720"/>
            <a:ext cx="10134360" cy="61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8360" y="228240"/>
            <a:ext cx="1287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eaking sound waves form strong Shock Waves…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7923960"/>
            <a:ext cx="12268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hromospheric Movie from Swedish Solar Telescope (Spa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Luc Rouppe van der Voort, Michiel van No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" name="halpha_04oct05_cut.mov" descr="Tarkus:Users:mcintosh:Desktop:Notes:SSU Stuff:nasa_press1:halpha_04oct05_cut.mov"/>
          <p:cNvPicPr/>
          <p:nvPr/>
        </p:nvPicPr>
        <p:blipFill>
          <a:blip r:embed="rId1"/>
          <a:stretch/>
        </p:blipFill>
        <p:spPr>
          <a:xfrm>
            <a:off x="2971800" y="990720"/>
            <a:ext cx="6865920" cy="6886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-434520" y="8793000"/>
            <a:ext cx="1397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Continuously driving fountains of plasma upwards at supersonic speed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165920" y="45720"/>
            <a:ext cx="559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puter Simul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2" name="spic_uztg.mov" descr="Tarkus:Users:mcintosh:Desktop:Notes:SSU Stuff:nasa_press1:spic_uztg.mov"/>
          <p:cNvPicPr/>
          <p:nvPr/>
        </p:nvPicPr>
        <p:blipFill>
          <a:blip r:embed="rId1"/>
          <a:stretch/>
        </p:blipFill>
        <p:spPr>
          <a:xfrm>
            <a:off x="1676520" y="790560"/>
            <a:ext cx="9612360" cy="7210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 rot="16200000">
            <a:off x="-916560" y="2293560"/>
            <a:ext cx="346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empera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8"/>
          <p:cNvSpPr/>
          <p:nvPr/>
        </p:nvSpPr>
        <p:spPr>
          <a:xfrm rot="16200000">
            <a:off x="-277920" y="5472360"/>
            <a:ext cx="21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eloc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09480" y="7924320"/>
            <a:ext cx="1226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of Institute of Theoretical Astrophysics, University of Oslo, Nor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8305920"/>
            <a:ext cx="12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Dynamic interplay of magnetic field and wave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form jets that are very similar to those observ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8-03-09T16:18:58Z</dcterms:modified>
  <cp:revision>80</cp:revision>
  <dc:subject/>
  <dc:title>MAGNETIC FIELD USES SOUND WAVES TO IGNITE SUN'S RING OF FIRE</dc:title>
</cp:coreProperties>
</file>